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2C55-7F2E-4874-A354-5D03BA1E9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F9D7-24FE-402B-B20E-CEDC24B68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lt-LT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06B1-423C-44CF-89AF-617FBDCDAFFA}" type="datetime">
              <a:rPr b="0" i="1" lang="lt-LT" sz="1400" spc="-1" strike="noStrike">
                <a:solidFill>
                  <a:srgbClr val="000000"/>
                </a:solidFill>
                <a:latin typeface="Garamond"/>
              </a:rPr>
              <a:t>2026 metų liepos mėnesio 28 diena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244920"/>
            <a:ext cx="590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lt-LT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14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7" descr="sp_VU_zenklas128"/>
          <p:cNvPicPr/>
          <p:nvPr/>
        </p:nvPicPr>
        <p:blipFill>
          <a:blip r:embed="rId2"/>
          <a:stretch/>
        </p:blipFill>
        <p:spPr>
          <a:xfrm>
            <a:off x="179280" y="189000"/>
            <a:ext cx="1095480" cy="12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sp_VU_zenklas"/>
          <p:cNvPicPr/>
          <p:nvPr/>
        </p:nvPicPr>
        <p:blipFill>
          <a:blip r:embed="rId2"/>
          <a:stretch/>
        </p:blipFill>
        <p:spPr>
          <a:xfrm>
            <a:off x="179280" y="189000"/>
            <a:ext cx="1409760" cy="1562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49200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lt-LT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819C-5298-42D7-8424-1C4CEC071165}" type="datetime">
              <a:rPr b="0" i="1" lang="lt-LT" sz="1400" spc="-1" strike="noStrike">
                <a:solidFill>
                  <a:srgbClr val="000000"/>
                </a:solidFill>
                <a:latin typeface="Garamond"/>
              </a:rPr>
              <a:t>2026 metų liepos mėnesio 28 diena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ig-komm.eu/" TargetMode="External"/><Relationship Id="rId2" Type="http://schemas.openxmlformats.org/officeDocument/2006/relationships/hyperlink" Target="http://www.mig.uki.vu.l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75614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  <a:ea typeface="Arial"/>
              </a:rPr>
              <a:t>MIG-KOMM-EU – Multilingual Intercultural Business Language for Europ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71280" y="4723920"/>
            <a:ext cx="7561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5th MEETING GRUNDTVIG PROJEC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ilnius, Vilnius Universit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27 May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  <a:ea typeface="Arial"/>
              </a:rPr>
              <a:t>MIG-KOMM-EU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he project websi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ig-komm.eu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ig.uki.vu.l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Footer Placeholder 5"/>
          <p:cNvSpPr/>
          <p:nvPr/>
        </p:nvSpPr>
        <p:spPr>
          <a:xfrm>
            <a:off x="277164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  <a:ea typeface="Arial"/>
              </a:rPr>
              <a:t>MIG-KOMM-EU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EU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supported proje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- 201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coordinator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the II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stitute for Intercultural Communication in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(Ansbach, Berlin, Jena)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in the framework of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LP Programm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Lifelong Learning Programme) of European Commissio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Footer Placeholder 5"/>
          <p:cNvSpPr/>
          <p:nvPr/>
        </p:nvSpPr>
        <p:spPr>
          <a:xfrm>
            <a:off x="277164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  <a:ea typeface="Arial"/>
              </a:rPr>
              <a:t>MIG-KOMM-EU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 partners from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Czech Republic, Estonia, Hungary, Latvia, Lithuania, Romania, Slovakia,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Sloveni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ithuania –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ilnius Univers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Institute of Foreign Languag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partment of German Language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 (Dalia Bukauskaitė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aculty of Philology,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partment of Lithuanian Studie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 (Eglė Gudavičienė, Vaida Našlėnaitė-Eberhardt, Elvyra Kutanovienė, Elvyra Petrašiūnienė, Joana Pribušauskaitė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Footer Placeholder 5"/>
          <p:cNvSpPr/>
          <p:nvPr/>
        </p:nvSpPr>
        <p:spPr>
          <a:xfrm>
            <a:off x="277164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Garamond"/>
              </a:rPr>
              <a:t>MIG-KOMM-EU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goals of the project are the development and dissemina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 learning material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est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business communicatio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goals are oriented toward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on European Framework of  Re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anguage learning material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exercises, videos, and audios, instructions, glossa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):  language level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1-B2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  <a:ea typeface="Arial"/>
              </a:rPr>
              <a:t>MIG-KOMM-EU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usiness language course (modules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nagement 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eting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rvice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tercultural communication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Garamond"/>
              </a:rPr>
              <a:t>MIG-KOMM-EU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compan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duct presentation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trategy of company governmen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ndustrial safety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asics of marketing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dvertisemen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anguage of marketing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77164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  <a:ea typeface="Arial"/>
              </a:rPr>
              <a:t>MIG-KOMM-EU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Servi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untry tourism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cological commoditie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-market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surance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tercultural communicatio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ulture of Lithuania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thuania according to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reigner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ody language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ies of communication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77164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  <a:ea typeface="Arial"/>
              </a:rPr>
              <a:t>MIG-KOMM-EU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ariety of task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ste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(audio or video support)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ading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guage usag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vocabulary &amp; grammar)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mmunication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iting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iz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about Lithuania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usines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ocabulary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WIKI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Footer Placeholder 5"/>
          <p:cNvSpPr/>
          <p:nvPr/>
        </p:nvSpPr>
        <p:spPr>
          <a:xfrm>
            <a:off x="277164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  <a:ea typeface="Arial"/>
              </a:rPr>
              <a:t>MIG-KOMM-EU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ests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B2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on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 mode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r all language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cative approach of language learning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pilo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ing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bank of the task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Footer Placeholder 5"/>
          <p:cNvSpPr/>
          <p:nvPr/>
        </p:nvSpPr>
        <p:spPr>
          <a:xfrm>
            <a:off x="2771640" y="6245280"/>
            <a:ext cx="590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17:15:33Z</dcterms:created>
  <dc:creator>Aloyzas</dc:creator>
  <dc:description/>
  <dc:language>en-US</dc:language>
  <cp:lastModifiedBy>Lit. stud. katedra</cp:lastModifiedBy>
  <dcterms:modified xsi:type="dcterms:W3CDTF">2011-05-27T05:38:18Z</dcterms:modified>
  <cp:revision>22</cp:revision>
  <dc:subject/>
  <dc:title>Slide 1</dc:title>
</cp:coreProperties>
</file>