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5C0E-70E8-4B4E-B6F7-F6770E999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0EDB-9101-4869-B423-AC36F5ED0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44920"/>
            <a:ext cx="590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VU, fakulte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sp_VU_zenklas128"/>
          <p:cNvPicPr/>
          <p:nvPr/>
        </p:nvPicPr>
        <p:blipFill>
          <a:blip r:embed="rId3"/>
          <a:stretch/>
        </p:blipFill>
        <p:spPr>
          <a:xfrm>
            <a:off x="179280" y="189000"/>
            <a:ext cx="109548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p_VU_zenklas"/>
          <p:cNvPicPr/>
          <p:nvPr/>
        </p:nvPicPr>
        <p:blipFill>
          <a:blip r:embed="rId3"/>
          <a:stretch/>
        </p:blipFill>
        <p:spPr>
          <a:xfrm>
            <a:off x="179280" y="189000"/>
            <a:ext cx="1409760" cy="156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492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g-komm.eu/" TargetMode="External"/><Relationship Id="rId2" Type="http://schemas.openxmlformats.org/officeDocument/2006/relationships/hyperlink" Target="http://www.mig.uki.vu.l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ki.vu.lt/" TargetMode="External"/><Relationship Id="rId2" Type="http://schemas.openxmlformats.org/officeDocument/2006/relationships/hyperlink" Target="http://www.lsk.flf.vu.lt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ig.uki.vu.lt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Garamond"/>
              </a:rPr>
              <a:t>Daugiakalbė tarpkultūrinė verslo komunikacija Europai</a:t>
            </a:r>
            <a:br>
              <a:rPr sz="4000"/>
            </a:br>
            <a:r>
              <a:rPr b="1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ttp://www.mig-komm.eu</a:t>
            </a:r>
            <a:br>
              <a:rPr sz="4000"/>
            </a:br>
            <a:r>
              <a:rPr b="1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http://www.mig.uki.vu.l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84072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Dalia Bukauskaitė (UKI), Eglė Gudavičienė (LSK), </a:t>
            </a:r>
            <a:br>
              <a:rPr sz="1900"/>
            </a:b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Vaida Našlėnaitė-Eberhardt (LSK), Elvyra Kutanovienė (LSK),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Elvyra Petrašiūnienė (LSK), Joana Pribušauskaitė (LSK)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900" spc="-1" strike="noStrike">
                <a:solidFill>
                  <a:srgbClr val="000000"/>
                </a:solidFill>
                <a:latin typeface="Garamond"/>
              </a:rPr>
              <a:t>2011-05-13</a:t>
            </a:r>
            <a:endParaRPr b="0" lang="en-US" sz="19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Kalbos mokymo kurs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Verslo sritys, atsispindinčios kurse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vadyba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rinkodara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paslaugų sfera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tarpkultūrinė komunikacija 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Vadyb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Įmonės pristatyma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Interviu su įmonės direktoriu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Smulkaus verslo įmonės pristatyma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Produkto pristatyma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Produkcijos ypatybė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Smulkiųjų verslininkų gaminama produkcija (šakočių kepimas, ekologiški produkta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Įmonės valdymo strategij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Verslo plana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Personalo kaita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Darbuotojų poilsio organizavima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Saugaus darbo organizavimas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Darbų saugos organizavimo įmonė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Darbų saugos konferencija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Rinkodar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Rinkodaros pagrinda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Reklama – epochos ženkla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Ekologijos rinkodar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Rinkodaros efektyvum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Reklama interne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Smulkiojo verslo klaido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Produkto pristatymas reklamoj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Ledų reklam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Žolelių preparatų eksportas už ES ribų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Rinkodaros kalb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Paslaugų sfer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Kaimo turizm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Kaimo turizmo organizavima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Lietuva – lankomiausio Europos žemyno dalis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Kaimo turizmo problemos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Ekologiškų prekių parduotuvė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Mobilieji ūkininkų turgelia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Senamiesčio krautuvėlė” 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Internetinė prekyb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Kas yra elektroninė prekyba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Patarimai pirkėjam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Lietuviškos prekės Europai - internetu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Draudim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Maitinimas: verslo pietū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Tarpkultūrinė komunik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Lietuvos kultūra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Tradicijo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Maitinimasis; valgymo įpročia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Lietuvos regionai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Lietuva užsieniečių akim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Verslo nišos Lietuvoj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Su kitataučiais juokaukite atsargiai”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Kokią Lietuvą pamatė japona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ūno kalb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Bendravimo kliūty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Medžiagos atrank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čių medžiaga: tekstai iš interneto svetainių, filmuota medžiaga, pratybų su B1-B2 lygio užsienio studentais, besimokančiais lietuvių kalbos, medžiaga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albos turinys grindžiamas B2 lygio aprašu “Aukštuma”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Užduočių rūšy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Garso ir vaizdo įrašai: klausomo teksto supratimo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Skaitomų tekstų supratimo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Kalbos vartojimo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    –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gramatikos,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     – </a:t>
            </a: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žodyno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Komunikacijos užduotys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74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100" spc="-1" strike="noStrike">
                <a:solidFill>
                  <a:srgbClr val="000000"/>
                </a:solidFill>
                <a:latin typeface="Garamond"/>
              </a:rPr>
              <a:t>Testas apie Lietuvą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Siekiamas rezultata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Interneto svetainė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ompaktinė plokštelė (mokomoji priemonė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cc33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cc3300"/>
                </a:solidFill>
                <a:latin typeface="Garamond"/>
              </a:rPr>
              <a:t>Mokomoji knyg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est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ublikacijos iš kalbotyros ir lingvodidaktik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o sklaida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Visa mokomoji ir testavimo medžiaga bandoma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Interneto svetainė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Tekstai su užduotimis(≈ 5 kiekvienai pot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me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skaitomi (po 2-3 tekstus kiekvienai potėme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klausomi (garso įrašai, po 2-3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klausomi su vaizdine paspara (vaizdo įrašai, po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Kalbos vartojim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gramatika (formos atrenkamos atsižvelgiant į  komunikacinių intencijų raišką, ≈ 7 užduotys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Garamond"/>
              </a:rPr>
              <a:t>leksika (terminai, kolokacijos ir pan., ≈ 5 užduotys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Komunikacija (≈ 3 užduoty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Rašymas (anketos, oficiali korespondencija, reikalų raštai, po 1 užduotį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Žodynas (vienkalbis)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Kompaktinė plokštelė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Garamond"/>
              </a:rPr>
              <a:t>Medžiaga grupuojama moduliais pagal tem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lausymo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garso įrašai ir užduoty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vaizdo įrašai ir užduoty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Skaitymo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albos vartojimo užduoty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gramatiko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leksik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Komunikacijos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Rašymo užduotys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Žodyna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ES finansuojamas daugiašalis projekta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MIG-KOMM-EU – Daugiakalbė tarpkultūrinė verslo komunikacija Europai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Mokomoji knyg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Skaitomi tekstai su užduotimi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albos vartojimo (gramatikos ir leksikos) užduotys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omunikacijos užduoty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čių atsakymai (su paaiškinimai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Gramatikos kompendiumas (lentelės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Žodyn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Testa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B2 kalbos mokėjim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Bendras modelis (visų kalbų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aikomasi  komunikacinės krypties principų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Užduotys bandom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uriama užduočių sankaup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Sklaid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Interneto svetainėje nuolat informuojama apie projekto darbu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LSK interneto svetainėje – nuorodos ir informacij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Bendradarbiaujama su verslo įmonėm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Bendradarbiaujama su užsienio universitetais, kur studijuojama lietuvių kalba (Varšuvos, Poznanės, Praho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Dalyvaujama viešuosiuose renginiuose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(2010 m. 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rugsėjo 26 d.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Europos Kalbų die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os renginyje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 projektas pristatytas visuomenei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Teikiama informacija žiniasklaidos priemonėmi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Ką mums pasiūlytumėte ar patartumėte?.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5" name="Picture 12" descr="NeriesRP20090628-037"/>
          <p:cNvPicPr/>
          <p:nvPr/>
        </p:nvPicPr>
        <p:blipFill>
          <a:blip r:embed="rId1"/>
          <a:stretch/>
        </p:blipFill>
        <p:spPr>
          <a:xfrm>
            <a:off x="1116000" y="1413000"/>
            <a:ext cx="7410600" cy="49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Tarpkultūrinės komunikacijos institutas Vokietijoj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Bavarijoje, Berlyne ir Turingijoje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lt-LT" sz="3200" spc="-1" strike="noStrike">
                <a:solidFill>
                  <a:srgbClr val="000000"/>
                </a:solidFill>
                <a:latin typeface="Garamond"/>
              </a:rPr>
              <a:t>IIK Institut für Interkulturelle Kommunikation e.V.,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Bayern, Berlin, Thüringen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o partneriai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Aukštosios mokyklos ir kalbų mokymo institucijos iš 8 Europos Sąjungos šalių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Estijos, Latvijos, Lietuvos, Rumunijos, Slovakijos, Slovėnijos, Čekijos, Vengrijo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Projekto partneria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ARTU ULIKOOL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lt-LT" sz="2400" spc="-1" strike="noStrike">
                <a:solidFill>
                  <a:srgbClr val="000000"/>
                </a:solidFill>
                <a:latin typeface="Garamond"/>
              </a:rPr>
              <a:t>Tartu universitetas, Estija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URIBA Biznesa Augustskola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Garamond"/>
              </a:rPr>
              <a:t>Turiba verslo administravimo aukštoj</a:t>
            </a:r>
            <a:r>
              <a:rPr b="0" i="1" lang="lt-LT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pt-BR" sz="2400" spc="-1" strike="noStrike">
                <a:solidFill>
                  <a:srgbClr val="000000"/>
                </a:solidFill>
                <a:latin typeface="Garamond"/>
              </a:rPr>
              <a:t> mokykl</a:t>
            </a:r>
            <a:r>
              <a:rPr b="0" i="1" lang="lt-LT" sz="2400" spc="-1" strike="noStrike">
                <a:solidFill>
                  <a:srgbClr val="000000"/>
                </a:solidFill>
                <a:latin typeface="Garamond"/>
              </a:rPr>
              <a:t>a, Latvija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versitatea din Bucureşti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Bukarešto universitetas</a:t>
            </a:r>
            <a:r>
              <a:rPr b="0" i="1" lang="lt-LT" sz="2400" spc="-1" strike="noStrike">
                <a:solidFill>
                  <a:srgbClr val="000000"/>
                </a:solidFill>
                <a:latin typeface="Garamond"/>
              </a:rPr>
              <a:t>, Rumunija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 - KU Inštitút jazykovej a interkultúrnej komunikácie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lt-LT" sz="2400" spc="-1" strike="noStrike">
                <a:solidFill>
                  <a:srgbClr val="000000"/>
                </a:solidFill>
                <a:latin typeface="Garamond"/>
              </a:rPr>
              <a:t>Kalbos ir tarpkultūrinės komunikacijos institutas, Slovakija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iverza v Mariboru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Mariboro universitetas</a:t>
            </a:r>
            <a:r>
              <a:rPr b="0" i="1" lang="lt-LT" sz="2400" spc="-1" strike="noStrike">
                <a:solidFill>
                  <a:srgbClr val="000000"/>
                </a:solidFill>
                <a:latin typeface="Garamond"/>
              </a:rPr>
              <a:t>, Slovėnija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ihoceská univerzita v Ceských Budejovicích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lt-LT" sz="2400" spc="-1" strike="noStrike">
                <a:solidFill>
                  <a:srgbClr val="000000"/>
                </a:solidFill>
                <a:latin typeface="Garamond"/>
              </a:rPr>
              <a:t>Pietų Bohemijos universitetas, Čekija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écsi Tudományegyetem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lt-LT" sz="2400" spc="-1" strike="noStrike">
                <a:solidFill>
                  <a:srgbClr val="000000"/>
                </a:solidFill>
                <a:latin typeface="Garamond"/>
              </a:rPr>
              <a:t>Pėčo universitetas, Vengrija</a:t>
            </a:r>
            <a:r>
              <a:rPr b="0" lang="lt-LT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000" spc="-1" strike="noStrike">
                <a:solidFill>
                  <a:srgbClr val="000000"/>
                </a:solidFill>
                <a:latin typeface="Garamond"/>
              </a:rPr>
              <a:t>Projekto vykdytojai Lietuvoje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VU UKI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Vokiečių kalbos kated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uki.vu.l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Garamond"/>
              </a:rPr>
              <a:t>VU Filologijos fakulteta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Lituanistinių studijų katedr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www.lsk.flf.vu.l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o tikslas – verslo komunikacijos skatinimas ES, verslo kalbos mokymas, verslo kalbos testavimo medžiagos sukūrimas.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Projekte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kreipiamas dėmesys į mažiau paplitusias ir rečiau mokomas Europos Sąjungos kalbas (</a:t>
            </a:r>
            <a:r>
              <a:rPr b="0" i="1" lang="lt-LT" sz="3200" spc="-1" strike="noStrike">
                <a:solidFill>
                  <a:srgbClr val="000000"/>
                </a:solidFill>
                <a:latin typeface="Garamond"/>
              </a:rPr>
              <a:t>LWULT -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the less widely used and less taught official Community languages</a:t>
            </a: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Garamond"/>
              </a:rPr>
              <a:t>Apie projektą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Šis projektas iš esmės remiasi dviem sėkmingai 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Garamond"/>
              </a:rPr>
              <a:t>įvykdytais Europos Sąjungos pilotiniais projektais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i="1" lang="lt-LT" sz="2800" spc="-1" strike="noStrike">
                <a:solidFill>
                  <a:srgbClr val="000000"/>
                </a:solidFill>
                <a:latin typeface="Garamond"/>
              </a:rPr>
              <a:t>Lingua 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projektu „Užsienio kalbų programų savarankiškam bei nuotoliniam kalbos mokymui verslo danų, vokiečių, prancūzų, ispanų kalbomis paruošimas ir išbandymas“ (D/95/A/188/P/III/FPC) (trukmė: 1995–1997)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– </a:t>
            </a:r>
            <a:r>
              <a:rPr b="0" i="1" lang="lt-LT" sz="2800" spc="-1" strike="noStrike">
                <a:solidFill>
                  <a:srgbClr val="000000"/>
                </a:solidFill>
                <a:latin typeface="Garamond"/>
              </a:rPr>
              <a:t>Erasmus/Lingua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 D projektu ECL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lt-LT" sz="2800" spc="-1" strike="noStrike">
                <a:solidFill>
                  <a:srgbClr val="000000"/>
                </a:solidFill>
                <a:latin typeface="Garamond"/>
              </a:rPr>
              <a:t>European Consortium for Certificate of Attainment in Modern Language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lt-LT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000000"/>
                </a:solidFill>
                <a:latin typeface="Garamond"/>
              </a:rPr>
              <a:t>Internetinė svetainė</a:t>
            </a:r>
            <a:br>
              <a:rPr sz="3600"/>
            </a:br>
            <a:r>
              <a:rPr b="0" lang="lt-LT" sz="36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 http://www.mig.uki.vu.l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743120" y="1600200"/>
            <a:ext cx="565776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1895400" y="1643040"/>
            <a:ext cx="6034320" cy="463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0:17:14Z</dcterms:created>
  <dc:creator>Sandra</dc:creator>
  <dc:description/>
  <dc:language>en-US</dc:language>
  <cp:lastModifiedBy>Kompiuteris</cp:lastModifiedBy>
  <dcterms:modified xsi:type="dcterms:W3CDTF">2011-05-13T08:51:15Z</dcterms:modified>
  <cp:revision>36</cp:revision>
  <dc:subject/>
  <dc:title>Slide 1</dc:title>
</cp:coreProperties>
</file>