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F0E8-3B5E-4150-8C5A-39ED2B202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9BDF-6E91-4F4D-95F8-F23E3DE2C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lt-LT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400" spc="-1" strike="noStrike">
                <a:solidFill>
                  <a:srgbClr val="000000"/>
                </a:solidFill>
                <a:latin typeface="Garamond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244920"/>
            <a:ext cx="590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lt-LT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400" spc="-1" strike="noStrike">
                <a:solidFill>
                  <a:srgbClr val="000000"/>
                </a:solidFill>
                <a:latin typeface="Garamond"/>
              </a:rPr>
              <a:t>VU, fakulte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sp_VU_zenklas128"/>
          <p:cNvPicPr/>
          <p:nvPr/>
        </p:nvPicPr>
        <p:blipFill>
          <a:blip r:embed="rId3"/>
          <a:stretch/>
        </p:blipFill>
        <p:spPr>
          <a:xfrm>
            <a:off x="179280" y="189000"/>
            <a:ext cx="109548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sp_VU_zenklas"/>
          <p:cNvPicPr/>
          <p:nvPr/>
        </p:nvPicPr>
        <p:blipFill>
          <a:blip r:embed="rId3"/>
          <a:stretch/>
        </p:blipFill>
        <p:spPr>
          <a:xfrm>
            <a:off x="179280" y="189000"/>
            <a:ext cx="1409760" cy="1562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492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lt-LT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400" spc="-1" strike="noStrike">
                <a:solidFill>
                  <a:srgbClr val="000000"/>
                </a:solidFill>
                <a:latin typeface="Garamond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g-komm.eu/" TargetMode="External"/><Relationship Id="rId2" Type="http://schemas.openxmlformats.org/officeDocument/2006/relationships/hyperlink" Target="http://www.mig.uki.vu.l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ki.vu.lt/" TargetMode="External"/><Relationship Id="rId2" Type="http://schemas.openxmlformats.org/officeDocument/2006/relationships/hyperlink" Target="http://www.lsk.flf.vu.lt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Garamond"/>
              </a:rPr>
              <a:t>Daugiakalbė tarpkultūrinė verslo komunikacija Europai</a:t>
            </a:r>
            <a:br>
              <a:rPr sz="4000"/>
            </a:br>
            <a:r>
              <a:rPr b="1" lang="lt-LT" sz="3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ttp://www.mig-komm.eu</a:t>
            </a:r>
            <a:br>
              <a:rPr sz="4000"/>
            </a:br>
            <a:r>
              <a:rPr b="1" lang="lt-LT" sz="32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www.mig.uki.vu.l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840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Garamond"/>
              </a:rPr>
              <a:t>Dalia Bukauskaitė (UKI), Eglė Gudavičienė (LSK), </a:t>
            </a:r>
            <a:br>
              <a:rPr sz="1900"/>
            </a:br>
            <a:r>
              <a:rPr b="0" lang="lt-LT" sz="1900" spc="-1" strike="noStrike">
                <a:solidFill>
                  <a:srgbClr val="000000"/>
                </a:solidFill>
                <a:latin typeface="Garamond"/>
              </a:rPr>
              <a:t>Vaida Našlėnaitė-Eberhardt (LSK),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Garamond"/>
              </a:rPr>
              <a:t>Elvyra Petrašiūnienė (LSK), Joana Pribušauskaitė (LSK)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Garamond"/>
              </a:rPr>
              <a:t>2010-10-08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Vadyb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Numatomi žanra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Įmonės pristatym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dukto pristatym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Įdėtame pavyzdyje – pagal Lietuvos įmonėje nufilmuotą medžiagą audiovizulinio teksto supratimo užduotys (3 sakinių siejimo užduotys) ir išmoktos leksikos tikrinimo užduoti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enkios kalbos vartojimo užduoty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Rinkodar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duktų reklam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Akcijos, nuolaid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Įdėtame pavyzdyje – kalbos vartojimo užduotis (jungiamųjų žodžių įrašymas)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Paslaugų sfer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Turizmas (akcentuojant kaimo turizmą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Maitinim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Draudimas ir bank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Tarpkultūrinė komunik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Lietuva svetimšalių akimis: kai kurie kultūriniai skirtuma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Svetimšaliai lietuvių akimis (teisingi ir neteisingi stereotipai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Įdėtame pavyzdyje – įrašytas dviejų užsienio studentų, besimokančių lietuvių kalbos (B1-B2 mokėjimo lygis), pokalbis apie verslo galimybes Lietuvoje. Po klausomo pokalbio – 2 audioteksto supratimo užduoty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Teorinis pagrinda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albos požiūriu – gramatikos, žinynai, “Aukštumoje” susistemintos  gramatinės struktūro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Dalykiniu požiūriu – įvairių verslo sričių vadovėliai (Appleby R.C., Kotler Ph., Keller K.L., Langvinienė N., Vengrienė B., Vengrauskas V., Vengrienė B. Mačys G., Vanagas ir kt.); daugiakalbiai ir aiškinamieji verslo terminų žodynai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Medžiagos rinkima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uočių medžiaga (tekstai iš interneto svetainių, filmuota medžiaga, pratybų su B1-B2 lygio užsienio studentais, besimokančiais lietuvių kalbos, medžiaga)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uočių medžiaga atrinkta pagal reikalingas komunikacines intencijas ir “Aukštumoje” susistemintas gramatines struktūra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Užduočių rūšy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Audiovizualinio teksto supratimo užduotys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Skaitomų tekstų supratimo užduotys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Kalbos vartojimo užduotys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    –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gramatikos,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    –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žodyno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Komunikacijos užduotys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Testas apie Lietuvą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Siekiamas rezultata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Mokomoji svetainė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ompaktinės plokštelės (mokomoji priemonė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Mokomoji knyg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Testa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ublikacijos iš kalbotyros ir lingvodidaktik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jekto sklaida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Visa mokomoji ir testavimo medžiaga išbandoma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Interneto svetainė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Tekstai su užduotimis(≈ 5 kiekvienai potėme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skaitomi (po 2-3 tekstus kiekvienai potėme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klausomi (garso įrašai, po 2-3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klausomi su vaizdine paspara (vaizdo įrašai, po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Kalbos vartojim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gramatika (formos atrenkamos atsižvelgiant į  komunikacinių intencijų raišką, ≈ 7 užduotys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leksika (terminai, kolokacijos ir pan., ≈ 5 užduotys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Komunikacija (≈ 3 užduoty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Rašymas (anketos, oficiali korespondencija, reikalų raštai, po 1 užduotį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Žodynas (vienkalbis)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Kompaktinės plokštelė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Klausymo užduoty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garso įrašai ir užduoty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vaizdo įrašai ir užduoty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Skaitymo užduoty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Kalbos vartojimo užduoty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gramatiko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leksik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Komunikacijos užduoty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Rašymo užduoty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Žodyna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ES finansuojamas daugiašalis projekta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MIG-KOMM-EU – Daugiakalbė tarpkultūrinė verslo komunikacija Europa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Mokomoji knyg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Skaitomi tekstai su užduotimi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albos vartojimo (gramatikos ir leksikos) užduoty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omunikacijos užduoty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uočių atsakymai (su paaiškinimai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Gramatikos kompendium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Žodyn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Testa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Išmokimo (orientuojamasi į kurso programą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Laikomasi  komunikacinės krypties principų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Orientuojamasi į BEKM lygius (B1-B2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arosios užduotys (kelių pasirinkčių, siejimo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uotys bandom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uriama užduočių sankaup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Publikacijo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Gramatinių modelių atrankos problem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Leksikos atrankos problem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Tarpkultūrinės komunikacijos iššūkia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Sklaid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Interneto svetainėje nuolat informuojama apie projekto darbu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LSK interneto svetainėje – nuorodos ir informacija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Bendradarbiaujama su verslo įmonėmi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Dalyvaujama viešuosiuose renginiuose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(2010 m. </a:t>
            </a: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rugsėjo 26 d.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Europos Kalbų dien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os renginyje</a:t>
            </a: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 projektas pristatytas visuomenei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000" spc="-1" strike="noStrike">
                <a:solidFill>
                  <a:srgbClr val="000000"/>
                </a:solidFill>
                <a:latin typeface="Garamond"/>
              </a:rPr>
              <a:t>Teikiama informacija žiniasklaidos priemonėmis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Jūsų  siūlymai ir patarimai?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Picture 5" descr="autumn-9"/>
          <p:cNvPicPr/>
          <p:nvPr/>
        </p:nvPicPr>
        <p:blipFill>
          <a:blip r:embed="rId1"/>
          <a:stretch/>
        </p:blipFill>
        <p:spPr>
          <a:xfrm>
            <a:off x="1558800" y="1600200"/>
            <a:ext cx="6026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Projekto koordinatoriu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Tarpkultūrinės komunikacijos institutas Vokietijoj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lt-LT" sz="3200" spc="-1" strike="noStrike">
                <a:solidFill>
                  <a:srgbClr val="000000"/>
                </a:solidFill>
                <a:latin typeface="Garamond"/>
              </a:rPr>
              <a:t>IIK Institut für Interkulturelle Kommunikation e.V.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jekto partneriai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Aukštosios mokyklos ir kalbų mokymo institucijos iš 8 Europos Sąjungos šalių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Estijos, Latvijos, Lietuvos, Rumunijos, Slovakijos, Slovėnijos, Čekijos, Vengrij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Garamond"/>
              </a:rPr>
              <a:t>Projekto vykdytojai Lietuvoj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VU UKI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Vokiečių kalbos katedr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uki.vu.l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VU Filologijos fakultet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Lituanistinių studijų katedr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www.lsk.flf.vu.l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jekto tikslas – verslo komunikacijos skatinimas ES, verslo kalbos mokymas, verslo kalbos testavimo medžiagos sukūrimas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Šis projektas iš esmės remiasi dviem sėkmingai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įvykdytais Europos Sąjungos pilotiniais projektai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i="1" lang="lt-LT" sz="2800" spc="-1" strike="noStrike">
                <a:solidFill>
                  <a:srgbClr val="000000"/>
                </a:solidFill>
                <a:latin typeface="Garamond"/>
              </a:rPr>
              <a:t>Lingua </a:t>
            </a: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projektu „Užsienio kalbų programų savarankiškam bei nuotoliniam kalbos mokymui verslo danų, vokiečių, prancūzų, ispanų kalbomis paruošimas ir išbandymas“ (D/95/A/188/P/III/FPC) (trukmė: 1995–1997)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i="1" lang="lt-LT" sz="2800" spc="-1" strike="noStrike">
                <a:solidFill>
                  <a:srgbClr val="000000"/>
                </a:solidFill>
                <a:latin typeface="Garamond"/>
              </a:rPr>
              <a:t>Erasmus/Lingua</a:t>
            </a: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 D projektu ECL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lt-LT" sz="2800" spc="-1" strike="noStrike">
                <a:solidFill>
                  <a:srgbClr val="000000"/>
                </a:solidFill>
                <a:latin typeface="Garamond"/>
              </a:rPr>
              <a:t>European Consortium for Certificate of Attainment in Modern Languag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Mokomoji priemonė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Orientuota į viešąją verslo erdvę, t. y. į tas situacijas, kur verslininkai bendrauja su klientais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albos mokėjimo lygis: B1-B2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Kalbos mokymo kursa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Verslo sritys, atsispindinčios kurse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vadyba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rinkodara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paslaugų sfera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tarpkultūrinė komunikacija 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0:17:14Z</dcterms:created>
  <dc:creator>Sandra</dc:creator>
  <dc:description/>
  <dc:language>en-US</dc:language>
  <cp:lastModifiedBy>demo</cp:lastModifiedBy>
  <dcterms:modified xsi:type="dcterms:W3CDTF">2010-10-12T22:59:02Z</dcterms:modified>
  <cp:revision>29</cp:revision>
  <dc:subject/>
  <dc:title>Slide 1</dc:title>
</cp:coreProperties>
</file>